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F0E-D613-4F74-9487-6579696F23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15D8-BF69-45C1-B4F0-88D3C38274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7F4-68FA-44FF-BA8A-47D025FB14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5FA-08E7-468D-92AD-3BBFAA3348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29C-B43A-4CED-97DE-ADAB5E0E04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C2D-3498-4128-B55C-CF41F936FF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4FFA-20BA-4E19-8DAF-ECA78B46D9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5E1B-6D39-4962-A4D3-41282EA147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5EE-77AD-4A33-9030-C1C9C6D9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C1B-6ED2-4F53-BC5B-82AA7858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C8B-7B20-494F-87C4-8CA7E1EB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A62-A868-4130-B571-DD36AB3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3FA2-5767-4332-BA24-7179C803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1438-0B47-4FEF-8D88-2537BA7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692-CF87-4679-A5E8-CDFE15D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14AE-CC1F-4E84-B362-D1C6DDB4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D514-696C-41C4-AF5B-68A515AB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FCE-3F42-4557-A63A-137DAA8A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6328-0B3C-4B82-98F8-56CF407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B7D-E25C-4E2D-BD9F-D96BB21D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7441-AC3D-4170-80A6-F63A8A0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1536-B3C6-4E2A-ADCB-BCE38BC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55AC-0941-4323-BCD1-C1C08A3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6BDC-5A84-4190-ADF0-556D5DFC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BC85-3216-497B-B104-B93D8CE0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20A-9FAE-49A4-81DD-DA16238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42F-DFC6-4289-9230-0AA9ED7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940-F01A-4CC0-A5CF-4C50F6D7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7A4-F093-48F9-B278-72D10B3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029-A8C2-4683-A855-871B7ED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FCC-42DF-44F9-939E-7297257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BD5-A313-4892-B85E-B5665CD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67C-735C-4629-AF75-661BFAB75C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D346-F889-4E56-AF35-F63059350F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deduca.wikispaces.com/" TargetMode="External"/><Relationship Id="rId2" Type="http://schemas.openxmlformats.org/officeDocument/2006/relationships/hyperlink" Target="http://educacionplasticayvisual.wikispaces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.juntadeandalucia.es/averroes/cppfelipe" TargetMode="External"/><Relationship Id="rId2" Type="http://schemas.openxmlformats.org/officeDocument/2006/relationships/hyperlink" Target="http://mutrayil.wikispaces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sumen.wikispaces.com/sextob0708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91440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ositorio de Recurso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deduca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tio web personal del profe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educacionplasticayvisual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trayil. Una recreación de Motril en la Eda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espacio se dedica a documentar las investigaciones que el alumnado de 4º A y 4º B del </a:t>
            </a: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EIP Príncipe Felipe de Motri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aliza para intentar conocer cómo era la vida en Mutrayil, Motril, en la época islámic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mutrayil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sumen.wikispaces.com/sextob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 en torno a libros en donde todos los alumnos cola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queños trabajos de investigación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socionatural.wikispaces.com/Los+anima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ema colaborativo en wiki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poemas.wikispaces.com/Deseamos+y+ofrec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arraciones colaborativas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narradores.wikispaces.com/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05440" y="1523880"/>
            <a:ext cx="81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extoscolaborativos.wikispaces.com/Wikis+en+Lengua+y+Li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14400" y="25909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rigido al profesorado de Lengua Castellana y Lit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cebido como una fuente de recursos para el trabajo sobre la ma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73240" y="29574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iki que refleja un trabajo colaborativo realizado por alumnos y a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yeron una antología de poemas de la Generación del 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uvo un premio el año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143000" y="1371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antologiapoetica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wiki que está pensado para recoger producciones orales de los alumnos y alum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resultado de una secuencia didáctica los alumnos graban textos de 100 palabras y proponen actividades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lumnos desarrollan la competencia en comunicación lingüística y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01880" y="137160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ienesunminuto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ACTIVIDAD: 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ILIDAD PARA INTERVENIR: La plataforma de trabajo es la propia página web (no es necesario tener instalado un software cliente en el orden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1676520"/>
            <a:ext cx="73152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poemasantologia.wikispace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un wiki que recoge una antología de poemas elaborada a partir de una selección de poemas proporcionada por el prof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alumnos los han organizado por temas y los han ilustrado con imá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bién han añadido vínculos para buscar información sobre sus a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ncular, no deben olvidar citar siempre las f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etar y así ser respe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ibir con legibilidad y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r, adaptar, reutilizar los contenidos disponibles en la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ender el conocimiento l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ener espíritu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HEMOS DE LOGRAR QUE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alumnos aprendan a..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 web 2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9720" y="1447560"/>
            <a:ext cx="794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expresarse/crear y public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wik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publicar y buscar inform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podcas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YouTub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Flick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lideShar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acceder a información de interé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RS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XM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li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GoogleRead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uscadores especializ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Redes so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Ning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econd Lif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Twitt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calendarios, geolocalización, libros virtuales compartidos, noticias, ofimática on-line, plataformas de teleformación, pizarras digitales colaborativas on-line, portal personalizad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MPLICACIONES EDUCATIVAS DE LA WE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928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fácilment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crear conocimiento,   buscar información ,   compartir e interactuar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ede orientarse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individual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también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colab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menta la motivación del alumnad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utilizar medios que les atraen y les resultan at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ver sus aportaciones publicadas y visibles a nivel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 servir como mecanismo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unicación con las familia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enda, diario, publicación de trabajo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aborar materi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solo o en grupo), compartir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someternos a comentari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lec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frec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s on-line para la publ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conte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actividades de aprendizaje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q, cazas de tesoros, ad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formas de  evaluación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aluación com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 competencias dig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uscar, procesar, comunic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 </a:t>
            </a:r>
            <a:r>
              <a:rPr b="1" i="1" lang="es-ES" sz="3200" spc="-1" strike="noStrike" u="sng">
                <a:solidFill>
                  <a:srgbClr val="003366"/>
                </a:solidFill>
                <a:uFillTx/>
                <a:latin typeface="Tahoma"/>
              </a:rPr>
              <a:t>fácilmente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ácter más 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9720" y="1000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tan fácil de usar que hace que el alumno se centre en el contenido y no en la tecn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bre nuevos espacios de comunicación entre profesores, alumnos, famili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a las capacidades sociales y de colaboración hu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menta el aprendizaje constructi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buen método para la realización de trabajos de creación, indagación y desarrollo de la capacidad de comuni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00080" y="198108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orma de romper los muros del aula. Lo que se hace en clase se continúa trabajando desde casa o desde otros espa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blicar, saberse leíd@, comentad@ y observad@ resulta estimu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68480" y="1428840"/>
            <a:ext cx="77691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09-11-19T12:25:14Z</dcterms:modified>
  <cp:revision>15</cp:revision>
  <dc:subject/>
  <dc:title>Presentación de PowerPoint</dc:title>
</cp:coreProperties>
</file>